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769-9A40-43A1-A3AD-B26D6F6E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790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0360" y="3200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38088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657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1BB-0454-40EB-B4D4-1EB6EA21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1DE-DEBA-4A49-A21D-6111EBF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761-AFB8-4760-9CF0-0193626A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00E-2B27-430D-B65A-5319BF7C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6D63-524B-40B3-A61E-4E50671B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E281-876D-46BA-85F6-547F6BF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B736-4690-4517-8C58-BC16598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8CC7-ED46-4E63-AEBF-1E1CE83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5B9-3AED-42ED-A269-32A2993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ABC3-49E5-4D8D-BD4E-502C3B35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CF04-F2A8-4CC9-879B-37D310F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609-5EF8-44D9-A674-17334D90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477-025A-4E1D-87CC-7E5F1CE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D76-8EBB-4EE2-86BB-11F25F9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4C96-E556-4C8A-98A5-7BF28F6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2F89-47A5-4D3D-9E0B-F80C217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30F4-D451-4DCB-A9EF-16930DD7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D0B-EF11-4BDA-AEC4-81E8D63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E5D-834B-467A-BE3A-16536EE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CE8-8DE0-4935-A0C3-F36ACD2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928-81BF-4D8B-97D7-32670CA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16C-3AFF-4BAF-8CA7-9D41ABF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A2F-1F1C-46F4-9250-4694833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6DF-9DB2-477E-AFF8-3307BC2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282-30C5-4787-B6BA-8EFF349D49A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302-D631-4686-8FF7-E8295D41EED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600" y="3276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Medieval Period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in Europe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819520"/>
          <a:ext cx="18478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184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292-812C-4518-9029-237B6289ED7C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57400" y="45720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9D5-0F83-47B1-B45A-ED589B8B95F9}" type="slidenum">
              <a:t>10</a:t>
            </a:fld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C89-357D-4EC6-AEC3-6FB33E195840}" type="slidenum">
              <a:t>11</a:t>
            </a:fld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at was a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a village in Medieval Europ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Each manor had everything it needed (farming, mills, for example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usually 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fief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f a noblema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The nobleman would live in 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castle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4200" y="464832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D39-A68A-494A-9354-39E8367769DF}" type="slidenum">
              <a:t>12</a:t>
            </a:fld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36920" y="257040"/>
            <a:ext cx="525312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010-4DE5-4255-8995-F29FEB4332A7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o </a:t>
            </a:r>
            <a:r>
              <a:rPr b="1" lang="en-GB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d</a:t>
            </a: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 on the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were two groups of peasant workers on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 skilled workers who paid rent and could leave the manor whenever they wished.  (They usually had a skill needed by others on the manor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 They did not have the freedom to leav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7E2-79EB-44E2-9381-5B30F4F14F4B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B03-0042-452B-957E-546BEDCAA162}" type="slidenum">
              <a:t>15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72F-4914-4F58-B35E-17F7336D5733}" type="slidenum">
              <a:t>16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BC5-6FC8-4230-B248-910817719DC6}" type="slidenum">
              <a:t>17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BBC-5515-4463-B19B-FAAD11BE330A}" type="slidenum">
              <a:t>18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425-5E7E-4684-B94C-552775188238}" type="slidenum">
              <a:t>19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Image Analy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Write down the words “Feudalism:  Image Analysis” in your not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Brainstorm some ideas of what we can learn about feudalism from this imag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F9D-DC5C-4C35-99FD-0FC6F78B135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veryone owed loyalty to the ________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really the most powerful.  They got _______ from the kin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esser nobles (knights) gave _________ _________ in return for la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bound to the land.  They worked in return for ____________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___ were skilled workers.  They paid rent to the ______ and were free to move if they wanted 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92080" cy="161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4240" y="380880"/>
            <a:ext cx="933480" cy="169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et’s see how much you remember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A85-C0A8-4DC9-880E-0A4063E4C5EA}" type="slidenum">
              <a:t>20</a:t>
            </a:fld>
          </a:p>
        </p:txBody>
      </p: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 Your Answ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one owed loyalty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i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really the most powerful.  They g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om the king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sser nobles (knights) ga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litary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vic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in return for lan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bound to the land.  They worked in return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skilled workers.  They paid rent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free to move if they wanted t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9000" y="380880"/>
            <a:ext cx="88272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A29-3665-452E-878B-B6F44162F266}" type="slidenum">
              <a:t>21</a:t>
            </a:fld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99A-7FF4-45B5-846D-ED67778640A6}" type="slidenum">
              <a:t>22</a:t>
            </a:fld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25640" y="257040"/>
            <a:ext cx="5292720" cy="634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9B2-4102-416A-A05E-70FB8873583F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ur lesson today is on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olitical structur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ystem an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mportanc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lationship betwe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rds and vassals during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5F9-1AB4-441D-B607-DD034CF4453A}" type="slidenum">
              <a:t>4</a:t>
            </a:fld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What is feudalism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y was feudalism necessar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lationship Between Lords and Vass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at is a Knigh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orkers on the Man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Feudal Contr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tructing the Feudal Pyramid of Pow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105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984-1283-4E63-B8B5-1FCBD9C59E0F}" type="slidenum">
              <a:t>5</a:t>
            </a:fld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Feudalism – What is i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political, economic, and soci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based on the relationship between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lord and vassal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723-1A28-491E-99A6-B612D8BCD00F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lationship between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de up an important part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olitical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ocial structur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eudal system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perform for the lor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turn,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the vass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6C1-EF0A-49EE-8C3F-115BA50CB234}" type="slidenum">
              <a:t>7</a:t>
            </a:fld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protection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a </a:t>
            </a:r>
            <a:r>
              <a:rPr b="1" lang="en-GB" sz="3600" spc="-1" strike="noStrike">
                <a:solidFill>
                  <a:srgbClr val="010000"/>
                </a:solidFill>
                <a:latin typeface="Arial"/>
              </a:rPr>
              <a:t>fief</a:t>
            </a: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 (a plot of land) to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Give military ai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tect the children and family of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11019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799-A76E-42B1-919A-1A4D910BD29C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Vass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Gave service to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must fight for the lord and bring other fighting men as well (usually knights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had judicial du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ust serve in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8EA-F629-431D-A385-418AB6186B2A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h Department</cp:lastModifiedBy>
  <dcterms:modified xsi:type="dcterms:W3CDTF">2009-01-21T09:24:59Z</dcterms:modified>
  <cp:revision>17</cp:revision>
  <dc:subject/>
  <dc:title>PowerPoint Presentation</dc:title>
</cp:coreProperties>
</file>