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4.wmf" ContentType="image/x-wmf"/>
  <Override PartName="/ppt/media/image9.wmf" ContentType="image/x-wmf"/>
  <Override PartName="/ppt/media/image1.wmf" ContentType="image/x-wmf"/>
  <Override PartName="/ppt/media/image2.jpeg" ContentType="image/jpeg"/>
  <Override PartName="/ppt/media/image3.wmf" ContentType="image/x-wmf"/>
  <Override PartName="/ppt/media/image13.wmf" ContentType="image/x-wmf"/>
  <Override PartName="/ppt/media/image8.jpeg" ContentType="image/jpeg"/>
  <Override PartName="/ppt/media/image4.wmf" ContentType="image/x-wmf"/>
  <Override PartName="/ppt/media/image10.wmf" ContentType="image/x-wmf"/>
  <Override PartName="/ppt/media/image5.wmf" ContentType="image/x-wmf"/>
  <Override PartName="/ppt/media/image6.jpeg" ContentType="image/jpeg"/>
  <Override PartName="/ppt/media/image12.wmf" ContentType="image/x-wmf"/>
  <Override PartName="/ppt/media/image7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5CE5-760E-4781-8371-D09C64698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790640" y="685800"/>
            <a:ext cx="3048120" cy="2286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90360" y="3200400"/>
            <a:ext cx="5105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nobles were kn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ety made up of three groups – nobles, clergy and pea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owns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’s trai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at age 7 as a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 guidance of the lady of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ught courtly manners, sometimes reading, music, dancing –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cessities of a no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an errands and served her in re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began serving the knights performing simp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squire at age 15 and placed under guidance of a k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ught the skills of knighthood, especially horsemanship and combat sk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ollowed knight into battle and  helped him if he was wounded or fell off his h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proven to be a good fighter he was rewarded by being made a k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pecial ceremony known as dubb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were expected to follow certain rules known as the code of chi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trained for war by fighting each other in tourn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r form of entertainment during the Middle 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 event was jo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two groups of workers on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em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had a skill needed by others on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d seneschals and bailiffs who helped run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neschals looked after fie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visiting each regul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ailif made sure pea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wns (called shires) also h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ce-keepers known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e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f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to work the noble’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worked their own land and gave a part of their crops to the no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no freedom – they were the noble’s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sants had no political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19320" y="380880"/>
            <a:ext cx="4267080" cy="3200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365724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onship between lords and vassals made up a big part of the political and social structure of the feudal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ies of loyalty and duty among no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s were both lords and vass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were made official by the “act of homag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fs were given to vassals by 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ds gave vassals the right to govern the people who lived on their fie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ds promised to give protection to the vass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ing the feudal contract could mean loss of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sals had certain duties to perform for the l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d the lord in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ted personally in military service 40 – 60 days a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money when the lord’s daughters married and when sons were knigh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d the lord’s ransom or took his place if he was capt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ded the lord’s cou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d food and entertainment when the lord vis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bles were ultimately vassals of the 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s provided the king with knights to form an army for defense and con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is,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wer belonged to the no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50EF-538A-40A0-B3BB-E8A22AEF6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061D-8652-4104-A6FF-14EC29C5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337E-F4DD-4794-8E9A-5146320B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A2EE-1CE4-4D48-B923-DB042F623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1629-14D5-4270-BBAE-0E54DADF7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856C-DE3A-408F-8810-9B412F21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A312-7AC4-4EE2-A13E-3519E106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FE00-2ADA-427C-9923-7975977A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1852-A971-4AD3-86D5-8E625658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93B9-4976-426A-A9C2-FFEB7295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8F3C-8217-46F4-AF72-9145E47C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F7DA-2067-4863-B407-09228A55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A055-4D11-4C7D-BFB2-F9CBDF30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F5A3-C705-4105-8520-00AB75C5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E467-D90C-48BD-B5C8-070EECC4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D20B-9011-42D0-A02E-B368EB6D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E82C-0890-4DEF-B1C1-B2A3F991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F87E-4FBA-4821-992D-0EF02DC9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2972-76C4-4A84-9908-4308C7D3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C953-57E2-4BB7-8C08-772C68BB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15E3-45B9-42AA-94D6-851732BB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26E7-5F25-4D2D-83E0-D3A1A273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2016-4E45-418C-B145-A648FD85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ECB0-5D02-410B-8BC8-11365053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44BC-DBC1-42F9-B4BF-0A2974B125D2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0BDF-4640-4355-91D1-EB1EFB4A7784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Feudal Society</a:t>
            </a:r>
            <a:br>
              <a:rPr sz="6600"/>
            </a:b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Political Structur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514600" y="3276720"/>
            <a:ext cx="495288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10000"/>
                </a:solidFill>
                <a:latin typeface="Arial"/>
              </a:rPr>
              <a:t>Medieval Period</a:t>
            </a:r>
            <a:endParaRPr b="0" lang="en-US" sz="4000" spc="-1" strike="noStrike">
              <a:solidFill>
                <a:srgbClr val="009999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10000"/>
                </a:solidFill>
                <a:latin typeface="Arial"/>
              </a:rPr>
              <a:t>in Europe</a:t>
            </a:r>
            <a:endParaRPr b="0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19320" y="2819520"/>
          <a:ext cx="1847880" cy="25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19520"/>
                    <a:ext cx="1847880" cy="25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873D-E479-4997-8C26-971110AA1CC5}" type="slidenum">
              <a:t>1</a:t>
            </a:fld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eudal Contra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 rot="17508000">
            <a:off x="2743200" y="236232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9688669"/>
                <a:lnTo>
                  <a:pt x="559" y="7369"/>
                </a:lnTo>
                <a:arcTo wR="10800" hR="10800" stAng="-9688669" swAng="9688669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79400">
            <a:off x="5333760" y="236196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9027850"/>
                <a:lnTo>
                  <a:pt x="1403" y="5476"/>
                </a:lnTo>
                <a:arcTo wR="10800" hR="10800" stAng="-9027850" swAng="902785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1903400">
            <a:off x="2743200" y="464832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4"/>
                </a:moveTo>
                <a:arcTo wR="-5500" hR="-5500" stAng="10797453" swAng="-9300089"/>
                <a:lnTo>
                  <a:pt x="1008" y="6243"/>
                </a:lnTo>
                <a:arcTo wR="10800" hR="10800" stAng="-9302636" swAng="9300089"/>
                <a:lnTo>
                  <a:pt x="24300" y="10790"/>
                </a:lnTo>
                <a:lnTo>
                  <a:pt x="18954" y="16144"/>
                </a:lnTo>
                <a:lnTo>
                  <a:pt x="13600" y="10798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5649000">
            <a:off x="5595120" y="4614480"/>
            <a:ext cx="1078200" cy="839880"/>
          </a:xfrm>
          <a:custGeom>
            <a:avLst/>
            <a:gdLst>
              <a:gd name="textAreaLeft" fmla="*/ 0 w 1078200"/>
              <a:gd name="textAreaRight" fmla="*/ 1078200 w 1078200"/>
              <a:gd name="textAreaTop" fmla="*/ 0 h 839880"/>
              <a:gd name="textAreaBottom" fmla="*/ 840240 h 8398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9122183"/>
                <a:lnTo>
                  <a:pt x="1261" y="5736"/>
                </a:lnTo>
                <a:arcTo wR="10800" hR="10800" stAng="-9122183" swAng="9122183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41720" y="228600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L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3809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90520" y="5410080"/>
            <a:ext cx="15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VASSAL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10080" y="3505320"/>
            <a:ext cx="244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GI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PROTECTION 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47676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4840" y="3429000"/>
            <a:ext cx="152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GIVE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SERVICE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10280" y="46483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57400" y="457200"/>
            <a:ext cx="126684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0A54-4DEB-4BE9-A9DC-C18EE7D86955}" type="slidenum">
              <a:t>10</a:t>
            </a:fld>
          </a:p>
        </p:txBody>
      </p:sp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a Knigh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67816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most all nobles were knigh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ining began at age 7, as a page, under the guidance of the lady of the manor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me squires at age 15 and were trained by other knigh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ose deemed worthy were “dubbed” knigh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1758960" cy="1506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086600" y="3808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FEE9-9464-4711-8426-BA9F2C9516EF}" type="slidenum">
              <a:t>11</a:t>
            </a:fld>
          </a:p>
        </p:txBody>
      </p:sp>
    </p:spTree>
  </p:cSld>
  <p:transition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6699"/>
                </a:solidFill>
                <a:latin typeface="Arial Narrow"/>
              </a:rPr>
              <a:t>What was a Manor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0106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0000"/>
                </a:solidFill>
                <a:latin typeface="Arial"/>
              </a:rPr>
              <a:t>A </a:t>
            </a: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manor </a:t>
            </a:r>
            <a:r>
              <a:rPr b="0" lang="en-GB" sz="3200" spc="-1" strike="noStrike">
                <a:solidFill>
                  <a:srgbClr val="010000"/>
                </a:solidFill>
                <a:latin typeface="Arial"/>
              </a:rPr>
              <a:t>was a village in Medieval Europe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0000"/>
                </a:solidFill>
                <a:latin typeface="Arial"/>
              </a:rPr>
              <a:t>Each manor had everything it needed (farming, mills, for example)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0000"/>
                </a:solidFill>
                <a:latin typeface="Arial"/>
              </a:rPr>
              <a:t>A </a:t>
            </a: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manor </a:t>
            </a:r>
            <a:r>
              <a:rPr b="0" lang="en-GB" sz="3200" spc="-1" strike="noStrike">
                <a:solidFill>
                  <a:srgbClr val="010000"/>
                </a:solidFill>
                <a:latin typeface="Arial"/>
              </a:rPr>
              <a:t>was usually on the </a:t>
            </a: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fief </a:t>
            </a:r>
            <a:r>
              <a:rPr b="0" lang="en-GB" sz="3200" spc="-1" strike="noStrike">
                <a:solidFill>
                  <a:srgbClr val="010000"/>
                </a:solidFill>
                <a:latin typeface="Arial"/>
              </a:rPr>
              <a:t>of a nobleman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0000"/>
                </a:solidFill>
                <a:latin typeface="Arial"/>
              </a:rPr>
              <a:t>The nobleman would live in a </a:t>
            </a: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castle </a:t>
            </a:r>
            <a:r>
              <a:rPr b="0" lang="en-GB" sz="3200" spc="-1" strike="noStrike">
                <a:solidFill>
                  <a:srgbClr val="010000"/>
                </a:solidFill>
                <a:latin typeface="Arial"/>
              </a:rPr>
              <a:t>on the </a:t>
            </a: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manor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925560" cy="1052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234200" y="4648320"/>
            <a:ext cx="126684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826D-9500-4C98-9CAF-549A755DC288}" type="slidenum">
              <a:t>12</a:t>
            </a:fld>
          </a:p>
        </p:txBody>
      </p:sp>
    </p:spTree>
  </p:cSld>
  <p:transition>
    <p:dissolv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36920" y="257040"/>
            <a:ext cx="5253120" cy="629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D32D-2715-4C8D-AD4E-32C115A23E48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6699"/>
                </a:solidFill>
                <a:latin typeface="Arial Narrow"/>
              </a:rPr>
              <a:t>Who </a:t>
            </a:r>
            <a:r>
              <a:rPr b="1" lang="en-GB" sz="4800" spc="-1" strike="noStrike" u="sng">
                <a:solidFill>
                  <a:srgbClr val="336699"/>
                </a:solidFill>
                <a:uFillTx/>
                <a:latin typeface="Arial Narrow"/>
              </a:rPr>
              <a:t>worked</a:t>
            </a:r>
            <a:r>
              <a:rPr b="1" lang="en-GB" sz="4800" spc="-1" strike="noStrike">
                <a:solidFill>
                  <a:srgbClr val="336699"/>
                </a:solidFill>
                <a:latin typeface="Arial Narrow"/>
              </a:rPr>
              <a:t> on the manor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were two groups of peasant workers on the manor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reeme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 skilled workers who paid rent and could leave the manor whenever they wished.  (They usually had a skill needed by others on the manor.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rf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– workers bound to the land by contract with the nobles.  They did not have the freedom to leave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AE90-1CA5-4A22-8DFA-1A89CD4108D6}" type="slidenum">
              <a:t>14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STRUCTING THE 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PYRAMID OR POW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4876560" cy="421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FD41-4D43-48C4-B77D-454D182121F4}" type="slidenum">
              <a:t>15</a:t>
            </a:fld>
          </a:p>
        </p:txBody>
      </p:sp>
    </p:spTree>
  </p:cSld>
  <p:transition>
    <p:dissolv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ONSTRUCTING THE PYRAMID OF POWER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5638680"/>
            <a:ext cx="4419720" cy="762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SERFS AND FREEME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51440" y="206856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71880" y="20574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5DF8-3A6C-4830-A649-B3D6DA0BFF50}" type="slidenum">
              <a:t>16</a:t>
            </a:fld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ONSTRUCTING THE PYRAMID OF POWER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4191120"/>
            <a:ext cx="358164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LESSER NOBL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(KNIGHTS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850120" y="4934160"/>
            <a:ext cx="396000" cy="7225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44760" y="4863240"/>
            <a:ext cx="407520" cy="7891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8680" y="515160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AB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78560" y="515160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PROT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5638680"/>
            <a:ext cx="4419720" cy="762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SERFS AND FREEME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51440" y="206856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71880" y="20574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68DA-4080-49BC-9ABD-94550A9E92BE}" type="slidenum">
              <a:t>17</a:t>
            </a:fld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ONSTRUCTING THE PYRAMID OF POWER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95480" y="4191120"/>
            <a:ext cx="358164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LESSER NOBL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(KNIGHTS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850120" y="4934160"/>
            <a:ext cx="396000" cy="7225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44760" y="4863240"/>
            <a:ext cx="407520" cy="7891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78680" y="515160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AB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78560" y="515160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PROT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2819520"/>
            <a:ext cx="27432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POWERFU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NOBL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524040" y="3496320"/>
            <a:ext cx="267120" cy="62676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66960" y="3514680"/>
            <a:ext cx="343800" cy="66708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38280" y="5638680"/>
            <a:ext cx="4419720" cy="762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SERFS AND FREEME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2600" y="3429000"/>
            <a:ext cx="128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AND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PROT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72680" y="3505320"/>
            <a:ext cx="183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OYALTY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MILITARY SERVIC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C245-3444-49F3-8551-A102CD34ED87}" type="slidenum">
              <a:t>18</a:t>
            </a:fld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ONSTRUCTING THE PYRAMID OF POWER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4191120"/>
            <a:ext cx="358164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LESSER NOBL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(KNIGHTS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850120" y="4934160"/>
            <a:ext cx="396000" cy="7225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44760" y="4863240"/>
            <a:ext cx="407520" cy="7891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8680" y="515160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AB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78560" y="515160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PROT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52680" y="2819520"/>
            <a:ext cx="27432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POWERFU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NOBL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1523880"/>
            <a:ext cx="144792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K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524040" y="3496320"/>
            <a:ext cx="267120" cy="62676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66960" y="3514680"/>
            <a:ext cx="343800" cy="66708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059000" y="2123640"/>
            <a:ext cx="262440" cy="6289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34160" y="2141640"/>
            <a:ext cx="266040" cy="59364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5638680"/>
            <a:ext cx="4419720" cy="762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SERFS AND FREEME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02600" y="3429000"/>
            <a:ext cx="128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AND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PROT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53960" y="206856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41520" y="2057400"/>
            <a:ext cx="144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OYALTY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SERVIC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2680" y="3505320"/>
            <a:ext cx="183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OYALTY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MILITARY SERVIC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909A-E3FA-462B-8486-66143B0C035E}" type="slidenum">
              <a:t>19</a:t>
            </a:fld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6699"/>
                </a:solidFill>
                <a:latin typeface="Arial Narrow"/>
              </a:rPr>
              <a:t>Image Analysi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Write down the words “Feudalism:  Image Analysis” in your notes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Brainstorm some ideas of what we can learn about feudalism from this image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20B2-9E41-4CE6-B35A-89FD44B82A84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240" y="2209680"/>
            <a:ext cx="6629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9966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veryone owed loyalty to the ________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9966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_______ were really the most powerful.  They got _______ from the king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9966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Lesser nobles (knights) gave _________ _________ in return for lan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9966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_______ were bound to the land.  They worked in return for ____________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9966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__________ were skilled workers.  They paid rent to the ______ and were free to move if they wanted t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086600" y="457200"/>
            <a:ext cx="892080" cy="16160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254240" y="380880"/>
            <a:ext cx="933480" cy="1692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600200" y="16002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Let’s see how much you remember!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9EF2-D10C-41F2-B000-AFD58C8F4247}" type="slidenum">
              <a:t>20</a:t>
            </a:fld>
          </a:p>
        </p:txBody>
      </p:sp>
    </p:spTree>
  </p:cSld>
  <p:transition>
    <p:dissolv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 Your Answ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67057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one owed loyalty to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kin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ob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ere really the most powerful.  They go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la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om the king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sser nobles (knights) gav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military</a:t>
            </a:r>
            <a:r>
              <a:rPr b="0" lang="en-US" sz="2800" spc="-1" strike="noStrike" u="sng">
                <a:solidFill>
                  <a:srgbClr val="ff9966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ervic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in return for land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erf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ere bound to the land.  They worked in return for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otection</a:t>
            </a:r>
            <a:r>
              <a:rPr b="0" lang="en-US" sz="2800" spc="-1" strike="noStrike" u="sng">
                <a:solidFill>
                  <a:srgbClr val="01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reeme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ere skilled workers.  They paid rent to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ob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were free to move if they wanted to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19000" y="380880"/>
            <a:ext cx="882720" cy="119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B171-E4F5-48F6-87FC-F43220BC7F5E}" type="slidenum">
              <a:t>21</a:t>
            </a:fld>
          </a:p>
        </p:txBody>
      </p:sp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1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6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1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6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1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743200" y="2286000"/>
            <a:ext cx="3767040" cy="34686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447920" y="114300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99"/>
                </a:solidFill>
                <a:latin typeface="Storybook"/>
              </a:rPr>
              <a:t>THE END</a:t>
            </a:r>
            <a:endParaRPr b="0" lang="en-US" sz="9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 rot="19285200">
            <a:off x="5310000" y="2911680"/>
            <a:ext cx="6408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"/>
              </a:rPr>
              <a:t>HISTOR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10000"/>
                </a:solidFill>
                <a:latin typeface="Arial"/>
              </a:rPr>
              <a:t>NOTES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C026-F9EB-4D66-B2EA-0B8B09C7794F}" type="slidenum">
              <a:t>22</a:t>
            </a:fld>
          </a:p>
        </p:txBody>
      </p:sp>
    </p:spTree>
  </p:cSld>
  <p:transition>
    <p:dissolve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25640" y="257040"/>
            <a:ext cx="5292720" cy="634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CDA7-17D0-4203-A1B8-EB501447A71E}" type="slidenum">
              <a:t>3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BJECT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ur lesson today is on the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olitical structure of the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eudal system and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mportance of the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lationship between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rds and vassals during the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iddle Ag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019920" y="4572000"/>
            <a:ext cx="2376360" cy="185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7117-A5E8-4FA6-9F90-CD0E466C049A}" type="slidenum">
              <a:t>4</a:t>
            </a:fld>
          </a:p>
        </p:txBody>
      </p: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pics of Discuss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What is feudalism?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hy was feudalism necessary?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lationship Between Lords and Vassal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hat is a Knight?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orkers on the Mano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Feudal Contrac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tructing the Feudal Pyramid of Powe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520" y="5105520"/>
            <a:ext cx="121896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F629-0540-442E-AEB7-6C884BC2B1C1}" type="slidenum">
              <a:t>5</a:t>
            </a:fld>
          </a:p>
        </p:txBody>
      </p:sp>
    </p:spTree>
  </p:cSld>
  <p:transition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6699"/>
                </a:solidFill>
                <a:latin typeface="Arial Narrow"/>
              </a:rPr>
              <a:t>Feudalism – What is i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10000"/>
                </a:solidFill>
                <a:latin typeface="Arial"/>
              </a:rPr>
              <a:t>political, economic, and social system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 based on the relationship between </a:t>
            </a:r>
            <a:r>
              <a:rPr b="1" lang="en-US" sz="3200" spc="-1" strike="noStrike">
                <a:solidFill>
                  <a:srgbClr val="010000"/>
                </a:solidFill>
                <a:latin typeface="Arial"/>
              </a:rPr>
              <a:t>lord and vassal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2A66-050E-4AF8-96E0-5DCC86380831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lationship Between Lords and Vassa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00200" y="18288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lationship between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lord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vassal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de up an important part of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political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ocial structur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f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eudal system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Vassal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had certain duties to perform for the lor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turn,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lor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had certain duties to the vassa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696080" y="380880"/>
            <a:ext cx="1020960" cy="14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D92B-2EE9-437F-AC86-6D6A01206CD2}" type="slidenum">
              <a:t>7</a:t>
            </a:fld>
          </a:p>
        </p:txBody>
      </p:sp>
    </p:spTree>
  </p:cSld>
  <p:transition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6699"/>
                </a:solidFill>
                <a:latin typeface="Arial Narrow"/>
              </a:rPr>
              <a:t>Obligations of the L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10000"/>
                </a:solidFill>
                <a:latin typeface="Arial"/>
              </a:rPr>
              <a:t>Provide protection 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10000"/>
                </a:solidFill>
                <a:latin typeface="Arial"/>
              </a:rPr>
              <a:t>Provide a </a:t>
            </a:r>
            <a:r>
              <a:rPr b="1" lang="en-GB" sz="3600" spc="-1" strike="noStrike">
                <a:solidFill>
                  <a:srgbClr val="010000"/>
                </a:solidFill>
                <a:latin typeface="Arial"/>
              </a:rPr>
              <a:t>fief</a:t>
            </a:r>
            <a:r>
              <a:rPr b="0" lang="en-GB" sz="3600" spc="-1" strike="noStrike">
                <a:solidFill>
                  <a:srgbClr val="010000"/>
                </a:solidFill>
                <a:latin typeface="Arial"/>
              </a:rPr>
              <a:t> (a plot of land) to the vassal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10000"/>
                </a:solidFill>
                <a:latin typeface="Arial"/>
              </a:rPr>
              <a:t>Give military aid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10000"/>
                </a:solidFill>
                <a:latin typeface="Arial"/>
              </a:rPr>
              <a:t>Protect the children and family of the vassal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38080" y="4572000"/>
            <a:ext cx="110196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BCDE-974B-4661-9673-18CABE5C13C3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6699"/>
                </a:solidFill>
                <a:latin typeface="Arial Narrow"/>
              </a:rPr>
              <a:t>Obligations of the Vass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Gave service to the lor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He must fight for the lord and bring other fighting men as well (usually knights)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He had judicial dutie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Must serve in the Lord’s cour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7620-4F52-4BFA-B3C4-F650D033DD12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ch Department</cp:lastModifiedBy>
  <dcterms:modified xsi:type="dcterms:W3CDTF">2009-01-21T09:24:59Z</dcterms:modified>
  <cp:revision>17</cp:revision>
  <dc:subject/>
  <dc:title>PowerPoint Presentation</dc:title>
</cp:coreProperties>
</file>