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4.wmf" ContentType="image/x-wmf"/>
  <Override PartName="/ppt/media/image9.wmf" ContentType="image/x-wmf"/>
  <Override PartName="/ppt/media/image1.wmf" ContentType="image/x-wmf"/>
  <Override PartName="/ppt/media/image2.jpeg" ContentType="image/jpeg"/>
  <Override PartName="/ppt/media/image3.wmf" ContentType="image/x-wmf"/>
  <Override PartName="/ppt/media/image13.wmf" ContentType="image/x-wmf"/>
  <Override PartName="/ppt/media/image8.jpeg" ContentType="image/jpeg"/>
  <Override PartName="/ppt/media/image4.wmf" ContentType="image/x-wmf"/>
  <Override PartName="/ppt/media/image10.wmf" ContentType="image/x-wmf"/>
  <Override PartName="/ppt/media/image5.wmf" ContentType="image/x-wmf"/>
  <Override PartName="/ppt/media/image6.jpeg" ContentType="image/jpeg"/>
  <Override PartName="/ppt/media/image12.wmf" ContentType="image/x-wmf"/>
  <Override PartName="/ppt/media/image7.png" ContentType="image/pn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9E3C-F796-414E-B3ED-4B07593FF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790640" y="685800"/>
            <a:ext cx="3048120" cy="2286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90360" y="3200400"/>
            <a:ext cx="5105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nobles were kn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ety made up of three groups – nobles, clergy and pea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owns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’s trai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at age 7 as a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 guidance of the lady of the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ught courtly manners, sometimes reading, music, dancing –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cessities of a no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an errands and served her in re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began serving the knights performing simple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squire at age 15 and placed under guidance of a k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ught the skills of knighthood, especially horsemanship and combat sk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ollowed knight into battle and  helped him if he was wounded or fell off his ho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proven to be a good fighter he was rewarded by being made a k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pecial ceremony known as dubb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s were expected to follow certain rules known as the code of chi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s trained for war by fighting each other in tourna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opular form of entertainment during the Middle 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 event was jo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two groups of workers on the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eem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had a skill needed by others on the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d seneschals and bailiffs who helped run the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eneschals looked after fie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visiting each regul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ailif made sure pea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wns (called shires) also h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ce-keepers known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e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f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to work the noble’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worked their own land and gave a part of their crops to the no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no freedom – they were the noble’s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sants had no political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19320" y="380880"/>
            <a:ext cx="4267080" cy="3200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3657240"/>
            <a:ext cx="510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onship between lords and vassals made up a big part of the political and social structure of the feudal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ies of loyalty and duty among no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s were both lords and vass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s were made official by the “act of homag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fs were given to vassals by l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ds gave vassals the right to govern the people who lived on their fie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ds promised to give protection to the vass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ing the feudal contract could mean loss of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sals had certain duties to perform for the l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d the lord in b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ted personally in military service 40 – 60 days a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money when the lord’s daughters married and when sons were knigh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d the lord’s ransom or took his place if he was capt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ded the lord’s cou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d food and entertainment when the lord vis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obles were ultimately vassals of the 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s provided the king with knights to form an army for defense and con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is,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wer belonged to the no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4A5F-114B-49DD-B59C-2AF66A049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7786-F5A4-4016-83A6-401C6492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F2ED-757C-4FED-A2B2-F50D3C03D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7B5F-5C0B-46C1-8B0E-91FD05CAE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49D2-C95B-4F3A-88E5-FBB0AF185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B1C4-2C62-422B-A639-1A36595A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DF9F-B636-49A8-89E1-12AA4448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A243-A2FA-4D2B-8F26-9070C614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6ABD-B7FF-4627-8D40-CD29FE8F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4630-2CAB-4186-B8F9-55EC52D9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E533-1D2C-4115-879D-77F420B6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E2D8-10D4-47E1-8FBA-67262FB7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0EEC-A3CF-43C4-A20F-96C3F099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872A-271B-4C91-8AAF-7F2D0424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3DD2-732A-462C-8E15-F6CB969A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975C-0096-49AC-B20D-FAD241B54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5AF2-CEED-43CF-92E9-FA56B6A17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2ADC-C2D1-41F5-B1ED-07119DE9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8D7E-761F-4555-AB69-CD1FF722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C70D-E335-4C9B-855B-70517512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8EFA-8257-4D09-81FB-EF97F353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91A4-ED24-4390-93DF-F73EE417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67C5-1AEC-4A6A-AAC7-152B75FF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7AFE-8373-4213-BDC3-F775A9AC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F296-57A3-4CFA-B62B-1A6659A073B2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B56B-AC7D-4F84-9AE0-0A60948DC83B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Feudal Society</a:t>
            </a:r>
            <a:br>
              <a:rPr sz="6600"/>
            </a:b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Political Structur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514600" y="3276720"/>
            <a:ext cx="495288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10000"/>
                </a:solidFill>
                <a:latin typeface="Arial"/>
              </a:rPr>
              <a:t>Medieval Period</a:t>
            </a:r>
            <a:endParaRPr b="0" lang="en-US" sz="4000" spc="-1" strike="noStrike">
              <a:solidFill>
                <a:srgbClr val="009999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10000"/>
                </a:solidFill>
                <a:latin typeface="Arial"/>
              </a:rPr>
              <a:t>in Europe</a:t>
            </a:r>
            <a:endParaRPr b="0" lang="en-US" sz="4000" spc="-1" strike="noStrike">
              <a:solidFill>
                <a:srgbClr val="009999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19320" y="2819520"/>
          <a:ext cx="1847880" cy="253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19520"/>
                    <a:ext cx="1847880" cy="25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86D9-02B0-442A-9885-190E9D3B88B9}" type="slidenum">
              <a:t>1</a:t>
            </a:fld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eudal Contra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"/>
          <p:cNvSpPr/>
          <p:nvPr/>
        </p:nvSpPr>
        <p:spPr>
          <a:xfrm rot="17508000">
            <a:off x="2743200" y="236232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9688669"/>
                <a:lnTo>
                  <a:pt x="559" y="7369"/>
                </a:lnTo>
                <a:arcTo wR="10800" hR="10800" stAng="-9688669" swAng="9688669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79400">
            <a:off x="5333760" y="236196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9027850"/>
                <a:lnTo>
                  <a:pt x="1403" y="5476"/>
                </a:lnTo>
                <a:arcTo wR="10800" hR="10800" stAng="-9027850" swAng="902785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1903400">
            <a:off x="2743200" y="464832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4"/>
                </a:moveTo>
                <a:arcTo wR="-5500" hR="-5500" stAng="10797453" swAng="-9300089"/>
                <a:lnTo>
                  <a:pt x="1008" y="6243"/>
                </a:lnTo>
                <a:arcTo wR="10800" hR="10800" stAng="-9302636" swAng="9300089"/>
                <a:lnTo>
                  <a:pt x="24300" y="10790"/>
                </a:lnTo>
                <a:lnTo>
                  <a:pt x="18954" y="16144"/>
                </a:lnTo>
                <a:lnTo>
                  <a:pt x="13600" y="10798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5649000">
            <a:off x="5595120" y="4614480"/>
            <a:ext cx="1078200" cy="839880"/>
          </a:xfrm>
          <a:custGeom>
            <a:avLst/>
            <a:gdLst>
              <a:gd name="textAreaLeft" fmla="*/ 0 w 1078200"/>
              <a:gd name="textAreaRight" fmla="*/ 1078200 w 1078200"/>
              <a:gd name="textAreaTop" fmla="*/ 0 h 839880"/>
              <a:gd name="textAreaBottom" fmla="*/ 840240 h 8398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9122183"/>
                <a:lnTo>
                  <a:pt x="1261" y="5736"/>
                </a:lnTo>
                <a:arcTo wR="10800" hR="10800" stAng="-9122183" swAng="9122183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41720" y="228600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L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3809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90520" y="5410080"/>
            <a:ext cx="15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VASSAL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10080" y="3505320"/>
            <a:ext cx="244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GI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PROTECTION T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476760" y="65527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4840" y="3429000"/>
            <a:ext cx="152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GIVE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SERVICE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T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10280" y="46483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57400" y="457200"/>
            <a:ext cx="126684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9BA6-4B4D-49CF-8B03-10F11B6C63C8}" type="slidenum">
              <a:t>10</a:t>
            </a:fld>
          </a:p>
        </p:txBody>
      </p:sp>
    </p:spTree>
  </p:cSld>
  <p:transition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a Knigh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67816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most all nobles were knigh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ining began at age 7, as a page, under the guidance of the lady of the manor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me squires at age 15 and were trained by other knigh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ose deemed worthy were “dubbed” knigh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1758960" cy="1506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086600" y="3808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94E0-E595-4081-A1CC-DD367A073098}" type="slidenum">
              <a:t>11</a:t>
            </a:fld>
          </a:p>
        </p:txBody>
      </p:sp>
    </p:spTree>
  </p:cSld>
  <p:transition>
    <p:dissolv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5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6699"/>
                </a:solidFill>
                <a:latin typeface="Arial Narrow"/>
              </a:rPr>
              <a:t>What was a Manor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0106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10000"/>
                </a:solidFill>
                <a:latin typeface="Arial"/>
              </a:rPr>
              <a:t>A </a:t>
            </a:r>
            <a:r>
              <a:rPr b="1" lang="en-GB" sz="3200" spc="-1" strike="noStrike">
                <a:solidFill>
                  <a:srgbClr val="010000"/>
                </a:solidFill>
                <a:latin typeface="Arial"/>
              </a:rPr>
              <a:t>manor </a:t>
            </a:r>
            <a:r>
              <a:rPr b="0" lang="en-GB" sz="3200" spc="-1" strike="noStrike">
                <a:solidFill>
                  <a:srgbClr val="010000"/>
                </a:solidFill>
                <a:latin typeface="Arial"/>
              </a:rPr>
              <a:t>was a village in Medieval Europe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10000"/>
                </a:solidFill>
                <a:latin typeface="Arial"/>
              </a:rPr>
              <a:t>Each manor had everything it needed (farming, mills, for example)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10000"/>
                </a:solidFill>
                <a:latin typeface="Arial"/>
              </a:rPr>
              <a:t>A </a:t>
            </a:r>
            <a:r>
              <a:rPr b="1" lang="en-GB" sz="3200" spc="-1" strike="noStrike">
                <a:solidFill>
                  <a:srgbClr val="010000"/>
                </a:solidFill>
                <a:latin typeface="Arial"/>
              </a:rPr>
              <a:t>manor </a:t>
            </a:r>
            <a:r>
              <a:rPr b="0" lang="en-GB" sz="3200" spc="-1" strike="noStrike">
                <a:solidFill>
                  <a:srgbClr val="010000"/>
                </a:solidFill>
                <a:latin typeface="Arial"/>
              </a:rPr>
              <a:t>was usually on the </a:t>
            </a:r>
            <a:r>
              <a:rPr b="1" lang="en-GB" sz="3200" spc="-1" strike="noStrike">
                <a:solidFill>
                  <a:srgbClr val="010000"/>
                </a:solidFill>
                <a:latin typeface="Arial"/>
              </a:rPr>
              <a:t>fief </a:t>
            </a:r>
            <a:r>
              <a:rPr b="0" lang="en-GB" sz="3200" spc="-1" strike="noStrike">
                <a:solidFill>
                  <a:srgbClr val="010000"/>
                </a:solidFill>
                <a:latin typeface="Arial"/>
              </a:rPr>
              <a:t>of a nobleman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10000"/>
                </a:solidFill>
                <a:latin typeface="Arial"/>
              </a:rPr>
              <a:t>The nobleman would live in a </a:t>
            </a:r>
            <a:r>
              <a:rPr b="1" lang="en-GB" sz="3200" spc="-1" strike="noStrike">
                <a:solidFill>
                  <a:srgbClr val="010000"/>
                </a:solidFill>
                <a:latin typeface="Arial"/>
              </a:rPr>
              <a:t>castle </a:t>
            </a:r>
            <a:r>
              <a:rPr b="0" lang="en-GB" sz="3200" spc="-1" strike="noStrike">
                <a:solidFill>
                  <a:srgbClr val="010000"/>
                </a:solidFill>
                <a:latin typeface="Arial"/>
              </a:rPr>
              <a:t>on the </a:t>
            </a:r>
            <a:r>
              <a:rPr b="1" lang="en-GB" sz="3200" spc="-1" strike="noStrike">
                <a:solidFill>
                  <a:srgbClr val="010000"/>
                </a:solidFill>
                <a:latin typeface="Arial"/>
              </a:rPr>
              <a:t>manor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925560" cy="1052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234200" y="4648320"/>
            <a:ext cx="126684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5ACC-645B-432B-BB20-FB31A17C5E3B}" type="slidenum">
              <a:t>12</a:t>
            </a:fld>
          </a:p>
        </p:txBody>
      </p:sp>
    </p:spTree>
  </p:cSld>
  <p:transition>
    <p:dissolv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36920" y="257040"/>
            <a:ext cx="5253120" cy="629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F21D-7F49-4102-80F6-9FE148F5E8A0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6699"/>
                </a:solidFill>
                <a:latin typeface="Arial Narrow"/>
              </a:rPr>
              <a:t>Who </a:t>
            </a:r>
            <a:r>
              <a:rPr b="1" lang="en-GB" sz="4800" spc="-1" strike="noStrike" u="sng">
                <a:solidFill>
                  <a:srgbClr val="336699"/>
                </a:solidFill>
                <a:uFillTx/>
                <a:latin typeface="Arial Narrow"/>
              </a:rPr>
              <a:t>worked</a:t>
            </a:r>
            <a:r>
              <a:rPr b="1" lang="en-GB" sz="4800" spc="-1" strike="noStrike">
                <a:solidFill>
                  <a:srgbClr val="336699"/>
                </a:solidFill>
                <a:latin typeface="Arial Narrow"/>
              </a:rPr>
              <a:t> on the manor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were two groups of peasant workers on the manor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reeme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 skilled workers who paid rent and could leave the manor whenever they wished.  (They usually had a skill needed by others on the manor.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rf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– workers bound to the land by contract with the nobles.  They did not have the freedom to leave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9EDD-CD62-44C3-8C77-6C869477769F}" type="slidenum">
              <a:t>14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STRUCTING THE 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 PYRAMID OR POW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4876560" cy="421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C36D-D1E9-4866-8A09-D69251D5FF25}" type="slidenum">
              <a:t>15</a:t>
            </a:fld>
          </a:p>
        </p:txBody>
      </p:sp>
    </p:spTree>
  </p:cSld>
  <p:transition>
    <p:dissolv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CONSTRUCTING THE PYRAMID OF POWER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5638680"/>
            <a:ext cx="4419720" cy="7621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SERFS AND FREEME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51440" y="206856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71880" y="20574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9D57-EA86-41BC-8F1E-102B0A6CFDC2}" type="slidenum">
              <a:t>16</a:t>
            </a:fld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CONSTRUCTING THE PYRAMID OF POWER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4191120"/>
            <a:ext cx="358164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LESSER NOBL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(KNIGHTS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850120" y="4934160"/>
            <a:ext cx="396000" cy="7225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44760" y="4863240"/>
            <a:ext cx="407520" cy="7891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8680" y="515160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AB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78560" y="5151600"/>
            <a:ext cx="12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PROTE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5638680"/>
            <a:ext cx="4419720" cy="7621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SERFS AND FREEME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51440" y="206856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71880" y="20574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B308-28DA-4616-B66F-F43CAE6CD8F1}" type="slidenum">
              <a:t>17</a:t>
            </a:fld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CONSTRUCTING THE PYRAMID OF POWER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95480" y="4191120"/>
            <a:ext cx="358164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LESSER NOBL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(KNIGHTS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850120" y="4934160"/>
            <a:ext cx="396000" cy="7225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44760" y="4863240"/>
            <a:ext cx="407520" cy="7891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78680" y="515160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AB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78560" y="5151600"/>
            <a:ext cx="12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PROTE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52680" y="2819520"/>
            <a:ext cx="27432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POWERFU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NOBL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524040" y="3496320"/>
            <a:ext cx="267120" cy="62676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66960" y="3514680"/>
            <a:ext cx="343800" cy="66708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38280" y="5638680"/>
            <a:ext cx="4419720" cy="7621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SERFS AND FREEME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02600" y="3429000"/>
            <a:ext cx="128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AND 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PROTE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72680" y="3505320"/>
            <a:ext cx="183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OYALTY 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MILITARY SERVIC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2AFE-899D-48AC-AF0E-277B638D41EA}" type="slidenum">
              <a:t>18</a:t>
            </a:fld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CONSTRUCTING THE PYRAMID OF POWER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95480" y="4191120"/>
            <a:ext cx="358164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LESSER NOBL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(KNIGHTS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850120" y="4934160"/>
            <a:ext cx="396000" cy="7225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44760" y="4863240"/>
            <a:ext cx="407520" cy="7891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78680" y="515160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AB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78560" y="5151600"/>
            <a:ext cx="12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PROTE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352680" y="2819520"/>
            <a:ext cx="27432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POWERFU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NOBL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86200" y="1523880"/>
            <a:ext cx="144792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K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524040" y="3496320"/>
            <a:ext cx="267120" cy="62676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66960" y="3514680"/>
            <a:ext cx="343800" cy="66708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059000" y="2123640"/>
            <a:ext cx="262440" cy="6289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34160" y="2141640"/>
            <a:ext cx="266040" cy="59364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38280" y="5638680"/>
            <a:ext cx="4419720" cy="7621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SERFS AND FREEME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02600" y="3429000"/>
            <a:ext cx="128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AND 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PROTE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853960" y="206856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41520" y="2057400"/>
            <a:ext cx="144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OYALTY 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SERVIC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2680" y="3505320"/>
            <a:ext cx="183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OYALTY 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MILITARY SERVIC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B144-B77A-404A-ABD9-852FC7F53963}" type="slidenum">
              <a:t>19</a:t>
            </a:fld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3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6699"/>
                </a:solidFill>
                <a:latin typeface="Arial Narrow"/>
              </a:rPr>
              <a:t>Image Analysi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0000"/>
                </a:solidFill>
                <a:latin typeface="Arial"/>
              </a:rPr>
              <a:t>Write down the words “Feudalism:  Image Analysis” in your notes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0000"/>
                </a:solidFill>
                <a:latin typeface="Arial"/>
              </a:rPr>
              <a:t>Brainstorm some ideas of what we can learn about feudalism from this image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6594-E332-4A7F-B165-96908FFF2FA7}" type="slidenum">
              <a:t>2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240" y="2209680"/>
            <a:ext cx="6629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9966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veryone owed loyalty to the ________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9966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_______ were really the most powerful.  They got _______ from the king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9966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Lesser nobles (knights) gave _________ _________ in return for lan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9966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_______ were bound to the land.  They worked in return for ____________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9966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__________ were skilled workers.  They paid rent to the ______ and were free to move if they wanted t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086600" y="457200"/>
            <a:ext cx="892080" cy="16160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254240" y="380880"/>
            <a:ext cx="933480" cy="16923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600200" y="16002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Let’s see how much you remember!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D970-3CDD-4335-9FBE-1116CA5658C7}" type="slidenum">
              <a:t>20</a:t>
            </a:fld>
          </a:p>
        </p:txBody>
      </p:sp>
    </p:spTree>
  </p:cSld>
  <p:transition>
    <p:dissolv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 Your Answ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67057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one owed loyalty to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kin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Nob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ere really the most powerful.  They got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la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om the king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sser nobles (knights) gav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military</a:t>
            </a:r>
            <a:r>
              <a:rPr b="0" lang="en-US" sz="2800" spc="-1" strike="noStrike" u="sng">
                <a:solidFill>
                  <a:srgbClr val="ff9966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ervic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in return for land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erf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ere bound to the land.  They worked in return for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rotection</a:t>
            </a:r>
            <a:r>
              <a:rPr b="0" lang="en-US" sz="2800" spc="-1" strike="noStrike" u="sng">
                <a:solidFill>
                  <a:srgbClr val="010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Freeme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ere skilled workers.  They paid rent to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nob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were free to move if they wanted to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19000" y="380880"/>
            <a:ext cx="882720" cy="119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193A-6389-4DB5-BDF0-E782A939F0D7}" type="slidenum">
              <a:t>21</a:t>
            </a:fld>
          </a:p>
        </p:txBody>
      </p:sp>
    </p:spTree>
  </p:cSld>
  <p:transition>
    <p:dissolv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1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6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1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6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1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743200" y="2286000"/>
            <a:ext cx="3767040" cy="34686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447920" y="1143000"/>
            <a:ext cx="65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99"/>
                </a:solidFill>
                <a:latin typeface="Storybook"/>
              </a:rPr>
              <a:t>THE END</a:t>
            </a:r>
            <a:endParaRPr b="0" lang="en-US" sz="9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 rot="19285200">
            <a:off x="5310000" y="2911680"/>
            <a:ext cx="6408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"/>
              </a:rPr>
              <a:t>HISTOR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10000"/>
                </a:solidFill>
                <a:latin typeface="Arial"/>
              </a:rPr>
              <a:t>NOTES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C7AB-DFF7-4EB5-9B27-B99DB2B0DBAB}" type="slidenum">
              <a:t>22</a:t>
            </a:fld>
          </a:p>
        </p:txBody>
      </p:sp>
    </p:spTree>
  </p:cSld>
  <p:transition>
    <p:dissolve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25640" y="257040"/>
            <a:ext cx="5292720" cy="634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F48A-D43C-4EC0-9FCF-31B3A741BCE4}" type="slidenum">
              <a:t>3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BJECT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ur lesson today is on the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olitical structure of the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eudal system and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mportance of the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lationship between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rds and vassals during the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iddle Ag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019920" y="4572000"/>
            <a:ext cx="2376360" cy="185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DD3C-3E79-450B-A451-62E059D60126}" type="slidenum">
              <a:t>4</a:t>
            </a:fld>
          </a:p>
        </p:txBody>
      </p: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pics of Discuss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What is feudalism?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hy was feudalism necessary?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lationship Between Lords and Vassal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hat is a Knight?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orkers on the Mano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Feudal Contrac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tructing the Feudal Pyramid of Powe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3520" y="5105520"/>
            <a:ext cx="121896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9141-D18C-4F29-A843-3A9BB4672345}" type="slidenum">
              <a:t>5</a:t>
            </a:fld>
          </a:p>
        </p:txBody>
      </p:sp>
    </p:spTree>
  </p:cSld>
  <p:transition>
    <p:dissolv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6699"/>
                </a:solidFill>
                <a:latin typeface="Arial Narrow"/>
              </a:rPr>
              <a:t>Feudalism – What is i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10000"/>
                </a:solidFill>
                <a:latin typeface="Arial"/>
              </a:rPr>
              <a:t>political, economic, and social system</a:t>
            </a: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 based on the relationship between </a:t>
            </a:r>
            <a:r>
              <a:rPr b="1" lang="en-US" sz="3200" spc="-1" strike="noStrike">
                <a:solidFill>
                  <a:srgbClr val="010000"/>
                </a:solidFill>
                <a:latin typeface="Arial"/>
              </a:rPr>
              <a:t>lord and vassal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258B-2E6E-4C38-9EA0-DF1D9A2C6C65}" type="slidenum">
              <a:t>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lationship Between Lords and Vassa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00200" y="18288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lationship between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lord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vassal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de up an important part of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political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ocial structur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f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eudal system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                                  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Vassal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had certain duties to perform for the lord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turn,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lor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had certain duties to the vassa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696080" y="380880"/>
            <a:ext cx="1020960" cy="14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36DF-B650-4C42-952D-791264678A4F}" type="slidenum">
              <a:t>7</a:t>
            </a:fld>
          </a:p>
        </p:txBody>
      </p:sp>
    </p:spTree>
  </p:cSld>
  <p:transition>
    <p:dissolv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6699"/>
                </a:solidFill>
                <a:latin typeface="Arial Narrow"/>
              </a:rPr>
              <a:t>Obligations of the L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10000"/>
                </a:solidFill>
                <a:latin typeface="Arial"/>
              </a:rPr>
              <a:t>Provide protection 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10000"/>
                </a:solidFill>
                <a:latin typeface="Arial"/>
              </a:rPr>
              <a:t>Provide a </a:t>
            </a:r>
            <a:r>
              <a:rPr b="1" lang="en-GB" sz="3600" spc="-1" strike="noStrike">
                <a:solidFill>
                  <a:srgbClr val="010000"/>
                </a:solidFill>
                <a:latin typeface="Arial"/>
              </a:rPr>
              <a:t>fief</a:t>
            </a:r>
            <a:r>
              <a:rPr b="0" lang="en-GB" sz="3600" spc="-1" strike="noStrike">
                <a:solidFill>
                  <a:srgbClr val="010000"/>
                </a:solidFill>
                <a:latin typeface="Arial"/>
              </a:rPr>
              <a:t> (a plot of land) to the vassal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10000"/>
                </a:solidFill>
                <a:latin typeface="Arial"/>
              </a:rPr>
              <a:t>Give military aid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10000"/>
                </a:solidFill>
                <a:latin typeface="Arial"/>
              </a:rPr>
              <a:t>Protect the children and family of the vassal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38080" y="4572000"/>
            <a:ext cx="1101960" cy="15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7B29-C168-433E-827A-9B021EBA7B95}" type="slidenum">
              <a:t>8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6699"/>
                </a:solidFill>
                <a:latin typeface="Arial Narrow"/>
              </a:rPr>
              <a:t>Obligations of the Vass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0000"/>
                </a:solidFill>
                <a:latin typeface="Arial"/>
              </a:rPr>
              <a:t>Gave service to the lord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0000"/>
                </a:solidFill>
                <a:latin typeface="Arial"/>
              </a:rPr>
              <a:t>He must fight for the lord and bring other fighting men as well (usually knights)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0000"/>
                </a:solidFill>
                <a:latin typeface="Arial"/>
              </a:rPr>
              <a:t>He had judicial dutie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0000"/>
                </a:solidFill>
                <a:latin typeface="Arial"/>
              </a:rPr>
              <a:t>Must serve in the Lord’s court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8F37-93DB-4B47-960B-5F813B1AD5F3}" type="slidenum">
              <a:t>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ch Department</cp:lastModifiedBy>
  <dcterms:modified xsi:type="dcterms:W3CDTF">2009-01-21T09:24:59Z</dcterms:modified>
  <cp:revision>17</cp:revision>
  <dc:subject/>
  <dc:title>PowerPoint Presentation</dc:title>
</cp:coreProperties>
</file>