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4.wmf" ContentType="image/x-wmf"/>
  <Override PartName="/ppt/media/image9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13.wmf" ContentType="image/x-wmf"/>
  <Override PartName="/ppt/media/image8.jpeg" ContentType="image/jpeg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0FEE-D3B7-43A0-AEEF-1D9153000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790640" y="68580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90360" y="3200400"/>
            <a:ext cx="5105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nobles were kn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y made up of three groups – nobles, clergy and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own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’s tr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at age 7 as a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guidance of the lady of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courtly manners, sometimes reading, music, dancing –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cessities of a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errands and served her in 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began serving the knights performing simp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squire at age 15 and placed under guidance of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ught the skills of knighthood, especially horsemanship and combat sk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llowed knight into battle and  helped him if he was wounded or fell off his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roven to be a good fighter he was rewarded by being made a k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ecial ceremony known as dubb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were expected to follow certain rules known as the code of chi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ights trained for war by fighting each other in tourn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r form of entertainment during 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event was jo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two groups of work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em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d a skill needed by others o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d seneschals and bailiffs who helped run the ma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neschals looked afte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visiting each regul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ilif made sure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wns (called shires) also h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ce-keepers know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f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work the noble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worked their own land and gave a part of their crops to the no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no freedom – they were the noble’s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sants had no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19320" y="38088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6572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ationship between lords and vassals made up a big part of the political and social structure of the feud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ies of loyalty and duty among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were both lords and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were made official by the “act of homag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fs were given to vassals by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gave vassals the right to govern the people who lived on their f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s promised to give protection to the vass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the feudal contract could mean loss of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sals had certain duties to perform for the l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the lord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d personally in military service 40 – 60 days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ney when the lord’s daughters married and when sons were kn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d the lord’s ransom or took his place if he was cap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d the lord’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d food and entertainment when the lord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obles were ultimately vassals of th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s provided the king with knights to form an army for defense and con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is,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wer belonged to the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057-76CF-48D9-A417-662A0AE3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90D-5E0C-417A-8749-6F152C26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CA9-D30F-40C4-B99E-47A69E67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05B-C03A-480C-B84A-05B5B339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BCF1-D384-4649-9248-4064941C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4640-18D4-4E81-AA32-7E00DAF9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4908-C141-4665-8BF5-F1F3A190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5F24-CA9B-406E-B534-929A6DE2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64B2-5F7D-4145-8D5E-3D757533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019C-5C59-4A0C-B5B9-E1528042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BE1D-7966-47BB-B6BF-D1542552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50C-13F4-495B-B242-F92DDC45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6141-6CAA-433F-A88D-925B72A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FCAB-CA38-4CD2-8F5F-2FA8280D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B0EA-C679-4DBA-9DD0-A49B9458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194C-B826-4D2B-9ADD-0A2716B9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0068-CAC3-42FE-AA17-8293FB62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965-FB22-4F8E-99D0-DC93990D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8D3-5DE5-4DE9-9893-236ECB02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C8B-5EA8-424E-BB33-B09A2EC6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7AB-8749-4B3D-AFCC-17547BA1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12C-A286-403A-9AB8-0746542F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5AE-69FE-43CD-934E-83212672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73D-7CBE-45E6-B871-14407D73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FA78-A899-46E0-9665-CB2C5DAEEBB9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C0DC-5955-410A-BF8A-0F508DA74417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Feudal Society</a:t>
            </a:r>
            <a:br>
              <a:rPr sz="6600"/>
            </a:b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Political Structur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14600" y="3276720"/>
            <a:ext cx="49528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10000"/>
                </a:solidFill>
                <a:latin typeface="Arial"/>
              </a:rPr>
              <a:t>Medieval Period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10000"/>
                </a:solidFill>
                <a:latin typeface="Arial"/>
              </a:rPr>
              <a:t>in Europe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819520"/>
          <a:ext cx="184788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184788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2A76-64E5-4A17-9DCB-E18D52100B37}" type="slidenum">
              <a:t>1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eudal Contra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 rot="17508000">
            <a:off x="2743200" y="2362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688669"/>
                <a:lnTo>
                  <a:pt x="559" y="7369"/>
                </a:lnTo>
                <a:arcTo wR="10800" hR="10800" stAng="-9688669" swAng="9688669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79400">
            <a:off x="5333760" y="236196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027850"/>
                <a:lnTo>
                  <a:pt x="1403" y="5476"/>
                </a:lnTo>
                <a:arcTo wR="10800" hR="10800" stAng="-9027850" swAng="902785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1903400">
            <a:off x="2743200" y="464832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4"/>
                </a:moveTo>
                <a:arcTo wR="-5500" hR="-5500" stAng="10797453" swAng="-9300089"/>
                <a:lnTo>
                  <a:pt x="1008" y="6243"/>
                </a:lnTo>
                <a:arcTo wR="10800" hR="10800" stAng="-9302636" swAng="9300089"/>
                <a:lnTo>
                  <a:pt x="24300" y="10790"/>
                </a:lnTo>
                <a:lnTo>
                  <a:pt x="18954" y="16144"/>
                </a:lnTo>
                <a:lnTo>
                  <a:pt x="13600" y="10798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649000">
            <a:off x="5595120" y="4614480"/>
            <a:ext cx="1078200" cy="839880"/>
          </a:xfrm>
          <a:custGeom>
            <a:avLst/>
            <a:gdLst>
              <a:gd name="textAreaLeft" fmla="*/ 0 w 1078200"/>
              <a:gd name="textAreaRight" fmla="*/ 1078200 w 10782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122183"/>
                <a:lnTo>
                  <a:pt x="1261" y="5736"/>
                </a:lnTo>
                <a:arcTo wR="10800" hR="10800" stAng="-9122183" swAng="912218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1720" y="2286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3809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90520" y="541008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VASSAL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3505320"/>
            <a:ext cx="24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ROTECTION 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67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4840" y="3429000"/>
            <a:ext cx="15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IV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VIC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57400" y="457200"/>
            <a:ext cx="126684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383-F92C-42C2-8B4D-0FD9C7BA17A4}" type="slidenum">
              <a:t>10</a:t>
            </a:fld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19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a Knigh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6781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most all nobles were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ining began at age 7, as a page, under the guidance of the lady of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me squires at age 15 and were trained by other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ose deemed worthy were “dubbed” knigh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758960" cy="1506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C9B-D514-4A41-B877-8ED06A38DE0A}" type="slidenum">
              <a:t>11</a:t>
            </a:fld>
          </a:p>
        </p:txBody>
      </p:sp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What was a Manor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anor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was a village in Medieval Europ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Each manor had everything it needed (farming, mills, for example)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anor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was usually on the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fief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of a noblema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The nobleman would live in a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castle </a:t>
            </a:r>
            <a:r>
              <a:rPr b="0" lang="en-GB" sz="3200" spc="-1" strike="noStrike">
                <a:solidFill>
                  <a:srgbClr val="010000"/>
                </a:solidFill>
                <a:latin typeface="Arial"/>
              </a:rPr>
              <a:t>on the </a:t>
            </a: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ano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925560" cy="1052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34200" y="4648320"/>
            <a:ext cx="126684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725-F76E-4185-97B0-32E8C7A1E14D}" type="slidenum">
              <a:t>12</a:t>
            </a:fld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36920" y="257040"/>
            <a:ext cx="5253120" cy="62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069-E886-4202-B9CE-C32F6B502C1E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Who </a:t>
            </a:r>
            <a:r>
              <a:rPr b="1" lang="en-GB" sz="4800" spc="-1" strike="noStrike" u="sng">
                <a:solidFill>
                  <a:srgbClr val="336699"/>
                </a:solidFill>
                <a:uFillTx/>
                <a:latin typeface="Arial Narrow"/>
              </a:rPr>
              <a:t>worked</a:t>
            </a: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 on the manor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were two groups of peasant workers on the man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reeme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 skilled workers who paid rent and could leave the manor whenever they wished.  (They usually had a skill needed by others on the manor.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– workers bound to the land by contract with the nobles.  They did not have the freedom to leav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7FB-AC25-41F9-A56E-AC29704EBFA0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STRUCTING TH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PYRAMID OR POW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876560" cy="42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55A-2707-416C-B32D-7D5A73F2B4FA}" type="slidenum">
              <a:t>15</a:t>
            </a:fld>
          </a:p>
        </p:txBody>
      </p:sp>
    </p:spTree>
  </p:cSld>
  <p:transition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51440" y="20685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71880" y="20574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AE6-6937-4E36-9ECF-857C0A8A3D3E}" type="slidenum">
              <a:t>16</a:t>
            </a:fld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1440" y="20685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71880" y="20574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075-A927-4CEB-B472-4387FEC6FF7D}" type="slidenum">
              <a:t>17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6A2-AC46-484D-B372-56F7940A45C3}" type="slidenum">
              <a:t>18</a:t>
            </a:fld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NSTRUCTING THE PYRAMID OF POWE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191120"/>
            <a:ext cx="358164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LESSER 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(KNIGHTS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850120" y="4934160"/>
            <a:ext cx="396000" cy="7225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44760" y="4863240"/>
            <a:ext cx="407520" cy="7891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8680" y="515160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B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8560" y="515160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2819520"/>
            <a:ext cx="274320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OWERFU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NOBL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1523880"/>
            <a:ext cx="14479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524040" y="3496320"/>
            <a:ext cx="267120" cy="62676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66960" y="3514680"/>
            <a:ext cx="343800" cy="66708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059000" y="2123640"/>
            <a:ext cx="262440" cy="628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34160" y="2141640"/>
            <a:ext cx="266040" cy="5936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638680"/>
            <a:ext cx="441972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SERFS AND FRE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600" y="3429000"/>
            <a:ext cx="128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PROT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53960" y="20685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1520" y="205740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2680" y="350532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LOYALTY AN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imes New Roman"/>
              </a:rPr>
              <a:t>MILITARY SERV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662-D5DF-486C-8C6A-E8E6412AD51C}" type="slidenum">
              <a:t>19</a:t>
            </a:fld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Image Analysi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Write down the words “Feudalism:  Image Analysis” in your notes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Brainstorm some ideas of what we can learn about feudalism from this image.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E6F-9249-4F69-9259-CBBF1FB997CF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veryone owed loyalty to the ________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_______ were really the most powerful.  They got _______ from the king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Lesser nobles (knights) gave _________ _________ in return for lan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_______ were bound to the land.  They worked in return for ____________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__________ were skilled workers.  They paid rent to the ______ and were free to move if they wanted 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892080" cy="1616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254240" y="380880"/>
            <a:ext cx="933480" cy="1692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020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Let’s see how much you remember!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3A6-0672-45A7-9399-3594519D7A39}" type="slidenum">
              <a:t>20</a:t>
            </a:fld>
          </a:p>
        </p:txBody>
      </p:sp>
    </p:spTree>
  </p:cSld>
  <p:transition>
    <p:dissolv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56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 Your Answ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one owed loyalty to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kin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b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ere really the most powerful.  They go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a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om the king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sser nobles (knights) gav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ilitary</a:t>
            </a:r>
            <a:r>
              <a:rPr b="0" lang="en-US" sz="2800" spc="-1" strike="noStrike" u="sng">
                <a:solidFill>
                  <a:srgbClr val="ff9966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rvic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in return for lan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rf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ere bound to the land.  They worked in return fo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tection</a:t>
            </a:r>
            <a:r>
              <a:rPr b="0" lang="en-US" sz="2800" spc="-1" strike="noStrike" u="sng">
                <a:solidFill>
                  <a:srgbClr val="01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reeme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ere skilled workers.  They paid rent to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b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were free to move if they wanted to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19000" y="380880"/>
            <a:ext cx="882720" cy="11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F1DB-91A0-4D87-A48E-C91F52D5BD50}" type="slidenum">
              <a:t>21</a:t>
            </a:fld>
          </a:p>
        </p:txBody>
      </p: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3767040" cy="3468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447920" y="114300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Storybook"/>
              </a:rPr>
              <a:t>THE END</a:t>
            </a:r>
            <a:endParaRPr b="0" lang="en-US" sz="9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 rot="19285200">
            <a:off x="5310000" y="2911680"/>
            <a:ext cx="640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</a:rPr>
              <a:t>NOT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D37-6185-4D70-9078-D12BBC6508C1}" type="slidenum">
              <a:t>22</a:t>
            </a:fld>
          </a:p>
        </p:txBody>
      </p:sp>
    </p:spTree>
  </p:cSld>
  <p:transition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25640" y="257040"/>
            <a:ext cx="5292720" cy="634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F2E-9DB8-4EE4-8A1D-4451088F6883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BJECT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ur lesson today is on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olitical structure of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eudal system and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mportance of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lationship between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rds and vassals during the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iddle Ag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19920" y="4572000"/>
            <a:ext cx="2376360" cy="18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486-5CC9-4EB3-8AC0-3730ECB69A73}" type="slidenum">
              <a:t>4</a:t>
            </a:fld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What is feudalism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hy was feudalism necessary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lationship Between Lords and Vassa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hat is a Knight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orkers on the Man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Feudal Contrac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tructing the Feudal Pyramid of Pow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5105520"/>
            <a:ext cx="121896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F33-10AF-4169-B472-CDE4642A9CFD}" type="slidenum">
              <a:t>5</a:t>
            </a:fld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Feudalism – What is i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political, economic, and social system</a:t>
            </a:r>
            <a:r>
              <a:rPr b="0" lang="en-US" sz="3200" spc="-1" strike="noStrike">
                <a:solidFill>
                  <a:srgbClr val="010000"/>
                </a:solidFill>
                <a:latin typeface="Arial"/>
              </a:rPr>
              <a:t> based on the relationship between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</a:rPr>
              <a:t>lord and vassal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1CC-10EA-4539-ACE6-5FABDECBAA52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lationship Between Lords and Vassa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lationship between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lord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vassal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de up an important part of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political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ocial structur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f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eudal system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Vassal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had certain duties to perform for the lor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turn,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lor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had certain duties to the vass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2096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3D3-7AC5-4538-A2C3-16625BD1DBA7}" type="slidenum">
              <a:t>7</a:t>
            </a:fld>
          </a:p>
        </p:txBody>
      </p:sp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Obligations of the L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Provide protection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Provide a </a:t>
            </a:r>
            <a:r>
              <a:rPr b="1" lang="en-GB" sz="3600" spc="-1" strike="noStrike">
                <a:solidFill>
                  <a:srgbClr val="010000"/>
                </a:solidFill>
                <a:latin typeface="Arial"/>
              </a:rPr>
              <a:t>fief</a:t>
            </a: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 (a plot of land) to the vassal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Give military ai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10000"/>
                </a:solidFill>
                <a:latin typeface="Arial"/>
              </a:rPr>
              <a:t>Protect the children and family of the vassal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11019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BBA-8E6F-4FC9-8448-742DEDCCC738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6699"/>
                </a:solidFill>
                <a:latin typeface="Arial Narrow"/>
              </a:rPr>
              <a:t>Obligations of the Vass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Gave service to the lord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He must fight for the lord and bring other fighting men as well (usually knights)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He had judicial dutie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Arial"/>
              </a:rPr>
              <a:t>Must serve in the Lord’s cour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F7C-4948-4D78-98FF-709B39E2851C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ch Department</cp:lastModifiedBy>
  <dcterms:modified xsi:type="dcterms:W3CDTF">2009-01-21T09:24:59Z</dcterms:modified>
  <cp:revision>17</cp:revision>
  <dc:subject/>
  <dc:title>PowerPoint Presentation</dc:title>
</cp:coreProperties>
</file>