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BBA-34E0-4170-9B0F-AE8EE18B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0AB-88CB-47DB-823A-3A417C25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134-453D-44CA-A33F-386CBEB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7E0-ACB6-4CBD-8B9B-49DD29B8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858-8721-4314-BEA2-DCFE82E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3C8-3F17-4ADC-AB31-C251244E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4A5-37BC-4D84-8790-4507879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01E-2071-4855-9DFC-53A0461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5FD-EB6D-4F6B-8311-05F673F0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57B-2734-4141-B00C-557CA56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D02-DE29-4A3B-83FB-5BD41C4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9E4-6A20-4E87-BBCD-DF8772E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D02-79EB-4503-88D4-8EC20B84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72.26.64.6/SAFARI/montage/play.php?keyindex=2834&amp;location=local&amp;chapterskeyindex=2003&amp;keyconceptskeyindex=5485&amp;play=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Quest for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lls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night-horseback"/>
          <p:cNvPicPr/>
          <p:nvPr/>
        </p:nvPicPr>
        <p:blipFill>
          <a:blip r:embed="rId3"/>
          <a:stretch/>
        </p:blipFill>
        <p:spPr>
          <a:xfrm>
            <a:off x="533520" y="609480"/>
            <a:ext cx="1619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4038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Richard of England convinces the Turks to allow Christians to visit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richard1"/>
          <p:cNvPicPr/>
          <p:nvPr/>
        </p:nvPicPr>
        <p:blipFill>
          <a:blip r:embed="rId2"/>
          <a:stretch/>
        </p:blipFill>
        <p:spPr>
          <a:xfrm>
            <a:off x="609480" y="1371600"/>
            <a:ext cx="1905120" cy="252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_croisade3_saladin"/>
          <p:cNvPicPr/>
          <p:nvPr/>
        </p:nvPicPr>
        <p:blipFill>
          <a:blip r:embed="rId3"/>
          <a:stretch/>
        </p:blipFill>
        <p:spPr>
          <a:xfrm>
            <a:off x="4343400" y="1981080"/>
            <a:ext cx="4559400" cy="4102200"/>
          </a:xfrm>
          <a:prstGeom prst="rect">
            <a:avLst/>
          </a:prstGeom>
          <a:ln w="0">
            <a:noFill/>
          </a:ln>
        </p:spPr>
      </p:pic>
      <p:pic>
        <p:nvPicPr>
          <p:cNvPr id="84" name="lion726.wav" descr=""/>
          <p:cNvPicPr/>
          <p:nvPr/>
        </p:nvPicPr>
        <p:blipFill>
          <a:blip r:embed="rId4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9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rusades Continue Through 1200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ral more crusades attempted with no victories for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ildren’s crusade, - 30,000 soldiers - many of them under 12 years old – Never made it to the Holy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hildren's crusade"/>
          <p:cNvPicPr/>
          <p:nvPr/>
        </p:nvPicPr>
        <p:blipFill>
          <a:blip r:embed="rId2"/>
          <a:stretch/>
        </p:blipFill>
        <p:spPr>
          <a:xfrm>
            <a:off x="5530680" y="3832200"/>
            <a:ext cx="3079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r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vel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ey w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rovement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eudalis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clines because Feudal lords die o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 Turk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ve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product from the Eas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:  A 7 minute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72.26.64.6/SAFARI/montage/play.php?keyindex=2834&amp;location=local&amp;chapterskeyindex=2003&amp;keyconceptskeyindex=5485&amp;pla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long series or Wars between Christians and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fought over control of Jerusalem which was called th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oly Land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cause it was the region where Jesus had lived, preached and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60P4~The-Middle-Ages-The-Crusades-Posters"/>
          <p:cNvPicPr/>
          <p:nvPr/>
        </p:nvPicPr>
        <p:blipFill>
          <a:blip r:embed="rId2"/>
          <a:stretch/>
        </p:blipFill>
        <p:spPr>
          <a:xfrm>
            <a:off x="5257800" y="1733400"/>
            <a:ext cx="308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SmartArt Placeholder 17414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 Turk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aptured Jerusale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rom the Byzanti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s stopp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s fr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Visiting Holy Lan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 pilgri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were attack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Byzantine 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eared attack on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onstantinop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5" descr="Allah"/>
          <p:cNvPicPr/>
          <p:nvPr/>
        </p:nvPicPr>
        <p:blipFill>
          <a:blip r:embed="rId2"/>
          <a:stretch/>
        </p:blipFill>
        <p:spPr>
          <a:xfrm>
            <a:off x="343080" y="1557360"/>
            <a:ext cx="262872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ross2"/>
          <p:cNvPicPr/>
          <p:nvPr/>
        </p:nvPicPr>
        <p:blipFill>
          <a:blip r:embed="rId3"/>
          <a:stretch/>
        </p:blipFill>
        <p:spPr>
          <a:xfrm>
            <a:off x="6705720" y="1447920"/>
            <a:ext cx="1428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all to 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eaching Urban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62" name="chee710.wav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o Answered the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eudal L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Peas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lap710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ope Urban II"/>
          <p:cNvPicPr/>
          <p:nvPr/>
        </p:nvPicPr>
        <p:blipFill>
          <a:blip r:embed="rId3"/>
          <a:stretch/>
        </p:blipFill>
        <p:spPr>
          <a:xfrm>
            <a:off x="4711680" y="1828800"/>
            <a:ext cx="3975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1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rusades fighting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fikn710.wav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1" name="chee710.wav" descr=""/>
          <p:cNvPicPr/>
          <p:nvPr/>
        </p:nvPicPr>
        <p:blipFill>
          <a:blip r:embed="rId4"/>
          <a:stretch/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15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7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b_RichardTheLionheart"/>
          <p:cNvPicPr/>
          <p:nvPr/>
        </p:nvPicPr>
        <p:blipFill>
          <a:blip r:embed="rId2"/>
          <a:stretch/>
        </p:blipFill>
        <p:spPr>
          <a:xfrm>
            <a:off x="6171480" y="449496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comb726.wav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45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* He was considered a very wise ruler. He was known for his sometimes kind treatment of fallen enemies. Many Christians saw him as a model of knigh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hival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aladin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79" name="bouuu.wav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58:46Z</dcterms:created>
  <dc:creator>Staff</dc:creator>
  <dc:description/>
  <dc:language>en-US</dc:language>
  <cp:lastModifiedBy>Technical Person</cp:lastModifiedBy>
  <dcterms:modified xsi:type="dcterms:W3CDTF">2014-03-28T13:38:57Z</dcterms:modified>
  <cp:revision>23</cp:revision>
  <dc:subject/>
  <dc:title>THE CRUSADES</dc:title>
</cp:coreProperties>
</file>